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929-7FA8-4EB1-9491-360C5787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C9A-F032-4DBE-B1BC-702A2850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B6B-4063-4AD0-83B8-654CE540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93D-F853-4DAB-8EF0-68943DF1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5048-21C2-408F-B419-B7E283F0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3E49-607D-409F-B1E6-83D1F5A0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9DED-0ECA-46D1-8627-651E9219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F74A-4077-4E5F-9719-81454FF2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36B3-813F-4349-AC93-93D8F33D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278E-42FC-43C4-9E6F-0DFCF9E7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34B8-DB86-40BB-95CC-BA069C9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C08-FBDE-411D-86C2-4418947E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7E0E-F315-4E20-BE67-59F221A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D8EA-34D0-4117-BC5F-2548413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E510-60AA-4DA9-B240-E04E39A8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DA41-8BB5-45F7-A454-32C05410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9AB2-10D8-4E3C-B127-4936AF2C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C52-BBA8-4595-8C4A-E40487D9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029-9144-4D3D-AE3C-B666E187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306-36A0-4D9F-95CC-0B193605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3A7-90A0-4B2F-9347-5C537A36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547-16B0-49F5-A097-86ABF899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E11-EFF5-4C90-935B-63D86D77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7F3-18DB-4B22-B2CB-38CFCB2C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AB84-630D-40A3-81C1-4D1B557C729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980E-404F-456F-8AAF-EC1DF98BE8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2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27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>
                <a:gd name="textAreaLeft" fmla="*/ 0 w 1662120"/>
                <a:gd name="textAreaRight" fmla="*/ 1662480 w 1662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28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>
                <a:gd name="textAreaLeft" fmla="*/ 0 w 1049400"/>
                <a:gd name="textAreaRight" fmla="*/ 1049760 w 10494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0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6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34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>
                <a:gd name="textAreaLeft" fmla="*/ 0 w 3193920"/>
                <a:gd name="textAreaRight" fmla="*/ 3194280 w 31939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>
                <a:gd name="textAreaLeft" fmla="*/ 0 w 2017800"/>
                <a:gd name="textAreaRight" fmla="*/ 2018160 w 20178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C68D-073E-4B3A-83C6-16487EB88D4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F01A-B291-4AD8-9732-5E9C1DD721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opasnet.org/w/Opasnet_base_structure" TargetMode="External"/><Relationship Id="rId2" Type="http://schemas.openxmlformats.org/officeDocument/2006/relationships/hyperlink" Target="http://en.opasnet.org/w/Opasnet_base_structure" TargetMode="External"/><Relationship Id="rId3" Type="http://schemas.openxmlformats.org/officeDocument/2006/relationships/hyperlink" Target="http://en.opasnet.org/w/Opasnet_base_structure" TargetMode="External"/><Relationship Id="rId4" Type="http://schemas.openxmlformats.org/officeDocument/2006/relationships/hyperlink" Target="http://en.opasnet.org/w/Opasnet_base_structure" TargetMode="External"/><Relationship Id="rId5" Type="http://schemas.openxmlformats.org/officeDocument/2006/relationships/hyperlink" Target="http://en.opasnet.org/w/Opasnet_Base" TargetMode="External"/><Relationship Id="rId6" Type="http://schemas.openxmlformats.org/officeDocument/2006/relationships/hyperlink" Target="http://en.opasnet.org/w/Opasnet_Base" TargetMode="External"/><Relationship Id="rId7" Type="http://schemas.openxmlformats.org/officeDocument/2006/relationships/hyperlink" Target="http://en.opasnet.org/w/Opasnet_Base" TargetMode="External"/><Relationship Id="rId8" Type="http://schemas.openxmlformats.org/officeDocument/2006/relationships/hyperlink" Target="http://en.opasnet.org/w/Opasnet_Base" TargetMode="External"/><Relationship Id="rId9" Type="http://schemas.openxmlformats.org/officeDocument/2006/relationships/hyperlink" Target="http://fi.opasnet.org/fi/Opasnet-kanta" TargetMode="External"/><Relationship Id="rId10" Type="http://schemas.openxmlformats.org/officeDocument/2006/relationships/hyperlink" Target="http://fi.opasnet.org/fi/Opasnet-kanta" TargetMode="External"/><Relationship Id="rId11" Type="http://schemas.openxmlformats.org/officeDocument/2006/relationships/hyperlink" Target="http://fi.opasnet.org/fi/Opasnet-kanta" TargetMode="External"/><Relationship Id="rId12" Type="http://schemas.openxmlformats.org/officeDocument/2006/relationships/hyperlink" Target="http://fi.opasnet.org/fi/Opasnet-kanta" TargetMode="External"/><Relationship Id="rId13" Type="http://schemas.openxmlformats.org/officeDocument/2006/relationships/hyperlink" Target="http://fi.opasnet.org/fi/Opasnet-kanta" TargetMode="External"/><Relationship Id="rId14" Type="http://schemas.openxmlformats.org/officeDocument/2006/relationships/hyperlink" Target="http://fi.opasnet.org/fi/Opasnet-kanta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4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C5BC-967C-4004-9C2B-D787A7B9A4B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6CA6-5E53-446A-8647-EEFCEFC3F0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Opasnet-kanta tietovarastona ja -lähteenä. </a:t>
            </a:r>
            <a:br>
              <a:rPr sz="2800"/>
            </a:b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Juomaveden terveysriskit ja </a:t>
            </a:r>
            <a:br>
              <a:rPr sz="2800"/>
            </a:b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kloorauksen sivutuotteet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äivi Meriläinen, T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1297-3475-476A-AC7C-7EBB81E16F9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9AF1-E19A-423A-9240-43EE70BC74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5374440" y="2852640"/>
            <a:ext cx="2887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lukon liit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2843280" y="2781360"/>
            <a:ext cx="2160360" cy="108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564000" y="3141720"/>
            <a:ext cx="180000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 flipV="1">
            <a:off x="2916360" y="3933720"/>
            <a:ext cx="251928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442480" y="4076640"/>
            <a:ext cx="2603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u tietokan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ittyvä t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2556000" y="3573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12E5-AC99-4A0A-9598-99814306EFE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BD58-3378-457A-9CC6-9F49140D13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Oval 5"/>
          <p:cNvSpPr/>
          <p:nvPr/>
        </p:nvSpPr>
        <p:spPr>
          <a:xfrm>
            <a:off x="4067280" y="5013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5076720" y="4869000"/>
            <a:ext cx="1511280" cy="43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093720" y="4292640"/>
            <a:ext cx="216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tojen la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E542-B00D-4AC2-8EBB-8FE4ECAD2EB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CA1C-5E94-4C66-8A1F-3BB8BD538F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 - Tulosten hak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6120" cy="4392720"/>
          </a:xfrm>
          <a:prstGeom prst="rect">
            <a:avLst/>
          </a:prstGeom>
          <a:ln w="0">
            <a:noFill/>
          </a:ln>
        </p:spPr>
      </p:pic>
      <p:sp>
        <p:nvSpPr>
          <p:cNvPr id="172" name="Oval 5"/>
          <p:cNvSpPr/>
          <p:nvPr/>
        </p:nvSpPr>
        <p:spPr>
          <a:xfrm>
            <a:off x="6804000" y="3284640"/>
            <a:ext cx="8650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021040" cy="779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4" name="TextBox 8"/>
          <p:cNvSpPr/>
          <p:nvPr/>
        </p:nvSpPr>
        <p:spPr>
          <a:xfrm>
            <a:off x="1175760" y="60008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sivulla linkki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9392-744A-46AC-B0AF-DB7C461B5E1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7081-1FB5-4A33-B028-3654F22962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4071960" y="4000680"/>
            <a:ext cx="4572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loorauksen sivutuotteiden (trihalometaanien) aiheuttamat syöpätapaukset Suom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75B3-C725-4983-B550-5420B05C598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C29-0B60-4D65-9FD5-E6A066D31F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7560" cy="4392720"/>
          </a:xfrm>
          <a:prstGeom prst="rect">
            <a:avLst/>
          </a:prstGeom>
          <a:ln w="0">
            <a:noFill/>
          </a:ln>
        </p:spPr>
      </p:pic>
      <p:sp>
        <p:nvSpPr>
          <p:cNvPr id="186" name="Oval 4"/>
          <p:cNvSpPr/>
          <p:nvPr/>
        </p:nvSpPr>
        <p:spPr>
          <a:xfrm>
            <a:off x="2340000" y="393372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H="1" flipV="1">
            <a:off x="3499920" y="4357800"/>
            <a:ext cx="1357560" cy="714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460680" y="507204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viointiin liittyvä matemaattinen ma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C6FB-5716-49F3-8A2E-00F216DB27C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67C1-6D3F-4842-8AD8-CDF14FFAC6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275520" cy="3354480"/>
          </a:xfrm>
          <a:prstGeom prst="rect">
            <a:avLst/>
          </a:prstGeom>
          <a:ln w="0">
            <a:noFill/>
          </a:ln>
        </p:spPr>
      </p:pic>
      <p:sp>
        <p:nvSpPr>
          <p:cNvPr id="194" name="Line 4"/>
          <p:cNvSpPr/>
          <p:nvPr/>
        </p:nvSpPr>
        <p:spPr>
          <a:xfrm flipH="1" flipV="1">
            <a:off x="3357360" y="3714840"/>
            <a:ext cx="2143080" cy="1000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611280" y="371628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143000" y="2928960"/>
            <a:ext cx="1955880" cy="571320"/>
          </a:xfrm>
          <a:custGeom>
            <a:avLst/>
            <a:gdLst>
              <a:gd name="textAreaLeft" fmla="*/ 366480 w 1955880"/>
              <a:gd name="textAreaRight" fmla="*/ 1426320 w 195588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00" hR="21600" stAng="10800000" swAng="5400000"/>
                <a:lnTo>
                  <a:pt x="11701" y="0"/>
                </a:lnTo>
                <a:arcTo wR="8100" hR="21600" stAng="-5400000" swAng="2801063"/>
                <a:lnTo>
                  <a:pt x="21137" y="14400"/>
                </a:lnTo>
                <a:lnTo>
                  <a:pt x="18000" y="21600"/>
                </a:lnTo>
                <a:lnTo>
                  <a:pt x="13936" y="14400"/>
                </a:lnTo>
                <a:lnTo>
                  <a:pt x="15736" y="14400"/>
                </a:lnTo>
                <a:arcTo wR="8100" hR="21600" stAng="-2598937" swAng="-2507863"/>
                <a:lnTo>
                  <a:pt x="9900" y="540"/>
                </a:lnTo>
                <a:arcTo wR="8100" hR="21600" stAng="-5693200" swAng="-5106800"/>
                <a:close/>
              </a:path>
              <a:path fill="darkenLess" w="21600" h="21600">
                <a:moveTo>
                  <a:pt x="0" y="21600"/>
                </a:moveTo>
                <a:arcTo wR="8100" hR="21600" stAng="10800000" swAng="5400000"/>
                <a:lnTo>
                  <a:pt x="8100" y="0"/>
                </a:lnTo>
                <a:arcTo wR="8100" hR="21600" stAng="-5400000" swAng="293200"/>
                <a:lnTo>
                  <a:pt x="9900" y="540"/>
                </a:lnTo>
                <a:arcTo wR="8100" hR="21600" stAng="-5693200" swAng="-51068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788720" y="4929120"/>
            <a:ext cx="40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n tunnus sama k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n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500040" y="14288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in muuttujien tieto ladataan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C069-2546-450A-8104-F190883B26B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5567-203A-4F64-8B56-BFD1F739FA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419880" cy="3430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3276720" y="2997360"/>
            <a:ext cx="6419880" cy="343044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1116000" y="2492280"/>
            <a:ext cx="20890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2484360" y="2997360"/>
            <a:ext cx="1366920" cy="86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50072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600360" y="1500120"/>
            <a:ext cx="4326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kaiselle muuttujalle luod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 sivu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91600" y="4357800"/>
            <a:ext cx="288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ös arviointisiv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ki muuttuj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D946-C796-46D9-9B0F-B022D57A70F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2621-CDD3-4733-9B2E-ECA2A6A1FE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losten hak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6120" cy="4392720"/>
          </a:xfrm>
          <a:prstGeom prst="rect">
            <a:avLst/>
          </a:prstGeom>
          <a:ln w="0">
            <a:noFill/>
          </a:ln>
        </p:spPr>
      </p:pic>
      <p:sp>
        <p:nvSpPr>
          <p:cNvPr id="215" name="Oval 5"/>
          <p:cNvSpPr/>
          <p:nvPr/>
        </p:nvSpPr>
        <p:spPr>
          <a:xfrm>
            <a:off x="6804000" y="3284640"/>
            <a:ext cx="8650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021040" cy="779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17" name="TextBox 8"/>
          <p:cNvSpPr/>
          <p:nvPr/>
        </p:nvSpPr>
        <p:spPr>
          <a:xfrm>
            <a:off x="1175760" y="60008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sivulla linkki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tulo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D056-1ADC-4399-B4BB-408607DE1A5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2535-C886-4842-9F05-9D51A1F303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027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tulo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3A76-7265-46B6-A93B-3660A21D817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EE0C-5188-4A20-900B-E526C2DD4B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027920" cy="4392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6843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0AFD-EE5B-4454-A7DE-167CAD5ED9E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925-1630-48A4-8278-24311B33A4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kä Opasnet-kanta 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hin Opasnet-kantaa voi käyttä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en Opasnet-kanta toimii käytännöss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mien tulosten lataaminen Opasnet-kant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: Juomaveden trihalometaanit ja virtsarakon syöpä Suome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E37D-CB1A-45F0-A539-D02CF5B8AFD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3F2B-B450-4E92-ACF5-F90CA074BB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C27-F757-430A-ACE7-76D35647637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7C6B-6C29-41A7-92BA-AAFC737B06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B62-0887-4ACC-BEBE-C1BD9A9681D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FF98-2FB6-41D8-8F58-AC6408FA29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85438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1944-ACD9-4F37-9C4D-EC34B71C541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3BAF-1F31-4403-A71B-6E57D6CC48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8543880" cy="5340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4"/>
          <a:stretch/>
        </p:blipFill>
        <p:spPr>
          <a:xfrm>
            <a:off x="1214280" y="2000160"/>
            <a:ext cx="854424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83BD-7A71-4266-AD1A-FADD49B0CC1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CA45-B68C-4000-9ABB-40A8771733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IITOS!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01560" y="162864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nkkejä Opasnet-kantaa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2"/>
              </a:rPr>
              <a:t>en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3"/>
              </a:rPr>
              <a:t>/w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4"/>
              </a:rPr>
              <a:t>Opasnet_base_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5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6"/>
              </a:rPr>
              <a:t>en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7"/>
              </a:rPr>
              <a:t>/w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8"/>
              </a:rPr>
              <a:t>Opasnet_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9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0"/>
              </a:rPr>
              <a:t>fi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1"/>
              </a:rPr>
              <a:t>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2"/>
              </a:rPr>
              <a:t>fi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3"/>
              </a:rPr>
              <a:t>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4"/>
              </a:rPr>
              <a:t>Opasnet-ka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6269-660B-4B57-92EA-BACBDCD08E7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AB86-328E-4D47-BF26-A721022196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ä Opasnet-kanta o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Opasnet-kant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on osa Opasnettiä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isältää muuttujien tuloksia sekä tutkimusdata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kanta on pyritty suunnittelemaan joustavaksi </a:t>
            </a:r>
            <a:r>
              <a:rPr b="0" lang="fi-FI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soveltuu lähes kaikenlaisen datan tallettami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Omat tutkimustulokset, osatulokset, analyys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iskinarvioin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uuttuj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85000"/>
              </a:lnSpc>
              <a:spcBef>
                <a:spcPts val="68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028F-ACE9-43EC-ABC7-452C51AC8F6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9CD9-E2DB-4DAD-A33E-9E155A79B6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hin Opasnet-kantaa voi käyttää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1. Tulkittujen mallitulosten talt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unperin Opasnet-kanta suunniteltiin tulkittujen mallinnustulosten tallennuspaikaksi, ts. muuttujien tuloksi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illa pyritään vastaamaan todellisuutta koskeviin kysymyksiin, ja niiden tulokset ovat tämänhetkinen paras arvio vastauksek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ien tulosten odotetaan kehittyvän jatkuv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A957-79FC-421D-BA9E-EAD3A3E452D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8968-0F1D-436C-A7D2-40B8E45DBE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2. ”Perinteisten" tutkimustulosten talt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taan voidaan kerätä havaintodataa tietyistä tutkimuksi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"Tutkimus" voi olla perinteinen tieteellinen tutkimus (julkais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tkimus-sivut ilmaisevat havainnot jostakin tietystä tieteellisestä (osa)tutkimukse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yn tutkimuksen tuottama data pysyy muuttumattomana tutkimuksen valmistutt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6D0C-6EAD-4497-A758-2C1FF7FE583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837E-7F9A-4C26-AAD8-A08296A075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3. Muita käyttötapo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ue-of-information analyysien tekeminen Opasnet-kanna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daan epävarmuuden merkityksellisyyttä päätöksenteon kann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n hakeminen tietokann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nassa olevien muuttujien laadun kehityksen seuraa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ki muuttujat, jotka on joskus tallennettu Opasnet-kantaan, säilyvät siellä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kannassa olevaa dataa voidaan käyttää, ladata ja tarkastel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oraan Analytica-malle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 ja tutkimussivuilla olevien linkkien kau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nettiliittymänsä kaut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alytica-ohjelmalla toteutetulla Opasnet base connection.ANA-tietokantaliittymäll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F79A-E2EA-4CED-9A99-50DF26D0ABE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CD31-AC44-487E-B19D-5EEF7E4EAF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837A-B3A8-47CB-AD82-4A9D6D1CE42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DDF5-AD84-4910-A751-BCEEA39F95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nsin luodaan dataa kuvaava sivu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udy/tutk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riable/muutt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5194440" cy="2776320"/>
          </a:xfrm>
          <a:prstGeom prst="rect">
            <a:avLst/>
          </a:prstGeom>
          <a:ln w="0">
            <a:noFill/>
          </a:ln>
        </p:spPr>
      </p:pic>
      <p:sp>
        <p:nvSpPr>
          <p:cNvPr id="133" name="Oval 5"/>
          <p:cNvSpPr/>
          <p:nvPr/>
        </p:nvSpPr>
        <p:spPr>
          <a:xfrm>
            <a:off x="5867280" y="4005360"/>
            <a:ext cx="636840" cy="18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F5EB-5211-45EF-9E4F-BD7294869E4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12E7-5AD8-407D-B2F1-E702ACEE51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H="1">
            <a:off x="2771280" y="3141720"/>
            <a:ext cx="2592360" cy="35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1908000" y="3357720"/>
            <a:ext cx="1008360" cy="50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835280" y="4581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2987640" y="4365720"/>
            <a:ext cx="2952720" cy="35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2627280" y="371628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 flipH="1">
            <a:off x="3347640" y="3645000"/>
            <a:ext cx="230364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6840" y="2708280"/>
            <a:ext cx="1078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j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5872320" y="3284640"/>
            <a:ext cx="175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t tie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6091920" y="4076640"/>
            <a:ext cx="216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tojen syött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15:23Z</dcterms:created>
  <dc:creator>mika kontio / grow.</dc:creator>
  <dc:description/>
  <dc:language>en-US</dc:language>
  <cp:lastModifiedBy>pmea</cp:lastModifiedBy>
  <dcterms:modified xsi:type="dcterms:W3CDTF">2010-02-15T06:49:42Z</dcterms:modified>
  <cp:revision>32</cp:revision>
  <dc:subject>suomi</dc:subject>
  <dc:title>THL</dc:title>
</cp:coreProperties>
</file>